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979-E801-466A-8658-786F4A49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4E2-DFDD-4A63-9941-317B7B4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8AC-AE50-4D29-96FD-CCD74348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AFF-8D5C-4BAB-983C-97429B0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B23-BB40-4D9F-A27E-F05E9EA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750-D779-4616-84D9-4FFC17AF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251-FB8D-4EA8-A004-CCABC7BF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2D8-7681-4EE9-91E9-ACD5562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FD0-A5A7-49A6-BAB0-24DB72B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101-5702-4971-A542-7C2E3C34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BAD-8287-4C4D-B3FF-84098BB7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3B1-F4FD-4B81-8758-E2B2F67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2343-23DE-4AF5-9708-DA5DADB0128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386 Zas vôkol radosť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Zas vôkol radosť vládne,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je všade spev a jas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 kraje nedohľadné</a:t>
            </a:r>
            <a:br>
              <a:rPr sz="4400"/>
            </a:b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sú plné sviežich krá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eď každá kvapka ros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sa ako krištáľ skvie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ú včielka nektár nos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pieseň vtáčat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u kvitnúce sú sad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chodník do pol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tam reťaz vrchov hľad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o tichých údo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Lán obilia sa vl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a potok žblnkoce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i motýľ na výslní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zdať Bohu chválu ch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Nám nespočetné dary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dal z lásky Stvoriteľ.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On dbá o všetky tvory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v ňom život má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ní svit, pokoj nocí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čo z milosti nám dal,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za dary jeho moci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ho vďačným srdcom chváľ! </a:t>
            </a:r>
            <a:br>
              <a:rPr sz="4800"/>
            </a:b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MAS Ing. Dušan Bielik</cp:lastModifiedBy>
  <dcterms:modified xsi:type="dcterms:W3CDTF">2025-09-12T14:03:40Z</dcterms:modified>
  <cp:revision>93</cp:revision>
  <dc:subject/>
  <dc:title>Je veľký náš Pán, on slávy je Kráľ Nech do všetkých strán  spev vrúcnych znie chvál.</dc:title>
</cp:coreProperties>
</file>